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427824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F132F-8ED6-460D-9A11-9B1E6CA6C44A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63983-F66C-4643-B6B5-3D8453AD3E35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0E532-A90B-4A03-97B2-97CAFA9E7AC5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ABC61-5F40-4D78-B4CA-8A5A980839A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26BBC-7284-4D95-8FEE-C33D3A69097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AC37E-5EA1-4447-A363-C640A1449D0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583F7-384F-41C1-AA86-186B10ACE199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077DE-CF82-4DA3-8022-5FB446B6BED7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9C4DA-F49F-4CCE-B14D-60D2629CFD7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4E930-6CC5-4D9C-B236-9FF16030E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8981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86971-049D-4589-A87A-1842AC700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B831-48F5-45C6-A25B-E7D78DBDA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DE05F-DC33-466A-9583-67051D24D3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09391-7B60-453F-893C-0EB29025AA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6E586-4EBB-4F70-AAB0-E262DA769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9E72-4106-4306-9BAA-C8DD28A91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8EF94-7B22-49A3-A26D-0B4493F54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71419-802C-43DB-B31E-AF9CE6051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4E84-0612-47A0-A979-52B990E44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74AE0-D1EE-436D-84D2-ED5115C0A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12FFA-49CE-4D86-A640-9310B77DB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BFB85-C53A-41C1-89E1-F4AE263FE493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–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rm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rcado cosmético no Mu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rcado cosmético no Bras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rcado de maquiagem no Bras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 -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rm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16000" y="1827360"/>
            <a:ext cx="9431280" cy="47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71280" y="1224000"/>
            <a:ext cx="9792000" cy="6264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71280" y="301680"/>
            <a:ext cx="90712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2d2db9"/>
                </a:solidFill>
                <a:latin typeface="Arial"/>
              </a:rPr>
              <a:t>  </a:t>
            </a:r>
            <a:r>
              <a:rPr b="1" lang="pt-BR" sz="4000" spc="-1" strike="noStrike">
                <a:solidFill>
                  <a:srgbClr val="2d2db9"/>
                </a:solidFill>
                <a:latin typeface="Arial"/>
              </a:rPr>
              <a:t>CANVAS                </a:t>
            </a:r>
            <a:r>
              <a:rPr b="1" lang="pt-BR" sz="2000" spc="-1" strike="noStrike">
                <a:solidFill>
                  <a:srgbClr val="2d2db9"/>
                </a:solidFill>
                <a:latin typeface="Arial"/>
              </a:rPr>
              <a:t>Linha de maquiag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7991640" y="2016000"/>
            <a:ext cx="172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Público feminino adolescente e adulto das  Classes B e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256360" y="6195960"/>
            <a:ext cx="3671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 fontScale="97000"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Venda de produtos via consultoras (venda dire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17440" y="6195960"/>
            <a:ext cx="3672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 fontScale="98000"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- P&amp;D e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- Matéria-pr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- Fabricação e Distribui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032360" y="2092320"/>
            <a:ext cx="180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 fontScale="81000"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BEM ESTAR B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- Valorizar a beleza existente em toda mul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- Relação custo benefí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- Tratamento cosmético junto com maquiag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5832360" y="1909800"/>
            <a:ext cx="2160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Relação é a base modelo do negócio: consultoras conhecem produtos e 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904000" y="3803760"/>
            <a:ext cx="1944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Venda dir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Relacionam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de confiança com o cliente final através da consult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2087640" y="1932120"/>
            <a:ext cx="1944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Produção ,  distribuição e venda de cosmé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44360" y="1728720"/>
            <a:ext cx="1800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- Fornecedores de insumos e embalag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- Comunidades que fornecem insumos sustentáve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- Consultoras de negó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2160720" y="4103640"/>
            <a:ext cx="172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- </a:t>
            </a:r>
            <a:r>
              <a:rPr b="0" lang="pt-BR" sz="1700" spc="-1" strike="noStrike">
                <a:solidFill>
                  <a:srgbClr val="2d2db9"/>
                </a:solidFill>
                <a:latin typeface="Arial"/>
              </a:rPr>
              <a:t>Fornecedores qualificad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2d2db9"/>
                </a:solidFill>
                <a:latin typeface="Arial"/>
              </a:rPr>
              <a:t>- Consultora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2d2db9"/>
                </a:solidFill>
                <a:latin typeface="Arial"/>
              </a:rPr>
              <a:t>Terceiros (fabricação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2d2db9"/>
                </a:solidFill>
                <a:latin typeface="Arial"/>
              </a:rPr>
              <a:t>P&amp;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14" descr="http://www.cntv.org.br/img_noticias/6689.jpg"/>
          <p:cNvPicPr/>
          <p:nvPr/>
        </p:nvPicPr>
        <p:blipFill>
          <a:blip r:embed="rId2"/>
          <a:stretch/>
        </p:blipFill>
        <p:spPr>
          <a:xfrm>
            <a:off x="2664000" y="34920"/>
            <a:ext cx="1574640" cy="117936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15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16" descr=""/>
          <p:cNvPicPr/>
          <p:nvPr/>
        </p:nvPicPr>
        <p:blipFill>
          <a:blip r:embed="rId3"/>
          <a:stretch/>
        </p:blipFill>
        <p:spPr>
          <a:xfrm>
            <a:off x="7870680" y="4672080"/>
            <a:ext cx="1806840" cy="101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"/>
          <p:cNvPicPr/>
          <p:nvPr/>
        </p:nvPicPr>
        <p:blipFill>
          <a:blip r:embed="rId4"/>
          <a:stretch/>
        </p:blipFill>
        <p:spPr>
          <a:xfrm>
            <a:off x="279360" y="4284720"/>
            <a:ext cx="1592280" cy="1361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"/>
          <p:cNvPicPr/>
          <p:nvPr/>
        </p:nvPicPr>
        <p:blipFill>
          <a:blip r:embed="rId5"/>
          <a:stretch/>
        </p:blipFill>
        <p:spPr>
          <a:xfrm>
            <a:off x="8166240" y="6126120"/>
            <a:ext cx="1260360" cy="12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71280" y="684360"/>
            <a:ext cx="10009440" cy="6804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"/>
          <p:cNvSpPr/>
          <p:nvPr/>
        </p:nvSpPr>
        <p:spPr>
          <a:xfrm>
            <a:off x="-73080" y="-468360"/>
            <a:ext cx="101538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2d2db9"/>
                </a:solidFill>
                <a:latin typeface="Arial"/>
              </a:rPr>
              <a:t>  </a:t>
            </a:r>
            <a:r>
              <a:rPr b="1" lang="pt-BR" sz="3600" spc="-1" strike="noStrike">
                <a:solidFill>
                  <a:srgbClr val="2d2db9"/>
                </a:solidFill>
                <a:latin typeface="Arial"/>
              </a:rPr>
              <a:t>CANVAS</a:t>
            </a:r>
            <a:r>
              <a:rPr b="1" lang="pt-BR" sz="40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2d2db9"/>
                </a:solidFill>
                <a:latin typeface="Arial"/>
              </a:rPr>
              <a:t>Organização:                              Produto/Serviços/Processo:                                                                                                                         </a:t>
            </a:r>
            <a:r>
              <a:rPr b="1" lang="pt-BR" sz="3600" spc="-1" strike="noStrike">
                <a:solidFill>
                  <a:srgbClr val="2d2db9"/>
                </a:solidFill>
                <a:latin typeface="Arial"/>
              </a:rPr>
              <a:t>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15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16" descr=""/>
          <p:cNvPicPr/>
          <p:nvPr/>
        </p:nvPicPr>
        <p:blipFill>
          <a:blip r:embed="rId2"/>
          <a:stretch/>
        </p:blipFill>
        <p:spPr>
          <a:xfrm>
            <a:off x="7870680" y="4564080"/>
            <a:ext cx="1806840" cy="101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"/>
          <p:cNvPicPr/>
          <p:nvPr/>
        </p:nvPicPr>
        <p:blipFill>
          <a:blip r:embed="rId3"/>
          <a:stretch/>
        </p:blipFill>
        <p:spPr>
          <a:xfrm>
            <a:off x="8712360" y="6345360"/>
            <a:ext cx="1019160" cy="1014120"/>
          </a:xfrm>
          <a:prstGeom prst="rect">
            <a:avLst/>
          </a:prstGeom>
          <a:ln w="0">
            <a:noFill/>
          </a:ln>
        </p:spPr>
      </p:pic>
      <p:sp>
        <p:nvSpPr>
          <p:cNvPr id="78" name="CaixaDeTexto 1"/>
          <p:cNvSpPr/>
          <p:nvPr/>
        </p:nvSpPr>
        <p:spPr>
          <a:xfrm>
            <a:off x="2035800" y="179280"/>
            <a:ext cx="325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2d2db9"/>
                </a:solidFill>
                <a:latin typeface="Arial"/>
              </a:rPr>
              <a:t>Elaborado por:                                   Data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18:38:33Z</dcterms:created>
  <dc:creator>luciel@uol.combr</dc:creator>
  <dc:description/>
  <dc:language>en-US</dc:language>
  <cp:lastModifiedBy>ssssss</cp:lastModifiedBy>
  <dcterms:modified xsi:type="dcterms:W3CDTF">2014-07-30T23:33:02Z</dcterms:modified>
  <cp:revision>26</cp:revision>
  <dc:subject/>
  <dc:title>Natura – linha de maquiagem</dc:title>
</cp:coreProperties>
</file>